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CA65-B390-4539-BD4E-8B711D8D8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F083-3B5E-4A6E-AFA8-4C4A5A00B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CFD3-3501-4F9E-BB53-654A270BB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79F8-C7B1-42DE-8907-44C868D11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D47C-8437-4927-A59F-BC76D6541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7714-112B-4C30-A0F2-826132FC0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66A1-3D88-49FD-A374-54778577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D974-129B-4BBD-BBB1-45B0011D6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EEA6-4CA1-43A2-AB83-002072359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4843-32BD-4241-AF6E-1B90CF031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80E5-E09D-40FB-8973-49BD48B1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A116-ACC7-43D9-81C6-87BB3EE8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17871-ED71-4D37-9B1B-692DE6E25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sc.org/bind10/sponsor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10 Pitch"/>
              </a:rPr>
              <a:t>bind10-std.h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lexible Data Sourc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one files (of cour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QL (of cour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DB (Berkeley DataBase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D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jbd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...generic data source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640" y="182160"/>
            <a:ext cx="87487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en you say “SQL”, what do you mean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tions for SQL are varied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-of-memory data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syste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er loa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tion with existing SQ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 provision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database for network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bought an SQL databas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ptive vs. Free SQ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ptive” SQ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“owns” the SQL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for efficient ca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s IXFR, DD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e” SQ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is one user of an SQL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users may update the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d caching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icated data synchro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cursion Improvemen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ur current goal, but some idea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che persis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red c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lookup tr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SEC debugging &amp;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56640" indent="-327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development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6640" indent="-327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ISC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JPRS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CNNIC staf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otype authoritative server D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2-r01 D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2-r02 scheduled for 2010-06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Verdana"/>
                <a:ea typeface="Arial Unicode MS"/>
                <a:hlinkClick r:id="rId1"/>
              </a:rPr>
              <a:t>https://bind10.isc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BIND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server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by 80% of DNS ser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re Did BIND 9 Come From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solve BIND 8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vy emphasis on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implementation for D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tivation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D 9 is almost 1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mput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NS software “marketplace” evol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 new architecture for the next 10+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jec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sought funders for BIND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ous sponsors provided initial fu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isc.org/bind10/spon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sponsors 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 10 Steering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kick-off date 2009-04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Fully functional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14:14:03Z</dcterms:created>
  <dc:creator/>
  <dc:description/>
  <dc:language>en-US</dc:language>
  <cp:lastModifiedBy>Shane Kerr</cp:lastModifiedBy>
  <dcterms:modified xsi:type="dcterms:W3CDTF">2010-05-12T06:31:27Z</dcterms:modified>
  <cp:revision>189</cp:revision>
  <dc:subject/>
  <dc:title>isc_template_09jul_openoffc</dc:title>
</cp:coreProperties>
</file>