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202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74E5C-237E-43A7-9C60-BBC69417D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640" y="374400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F72B8-FE8F-419C-9A4D-BE7C2B177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00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2B2B5-AFEE-4364-B233-3811ED4C8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30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04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56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30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04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D54EE-D6EF-4BD4-AB36-7CDCB66549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85640" y="1510920"/>
            <a:ext cx="87472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72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85640" y="179280"/>
            <a:ext cx="874728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5640" y="1510920"/>
            <a:ext cx="87472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ACE0C-6221-48AC-96BD-FBBE5A51D3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6800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640" y="374400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6800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430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004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56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430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004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72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295E-5C7A-44FB-BF3E-15D786CC0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443B5-0CB8-4617-B8FA-58C849D6C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FE7EF-98F7-428D-99CC-80C36FD46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5640" y="179280"/>
            <a:ext cx="874728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C8DF5-5A24-437E-B05A-EA9397A31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BDC11-04E7-46AD-A2C0-20C2B7FA2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00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BE3A-BD25-46F2-8AB5-19981EAD7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8382-1E4F-4E5F-A3AF-CDFA83A2A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5640" y="1510920"/>
            <a:ext cx="87472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85280" y="5759280"/>
            <a:ext cx="2266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399B42-4A56-4F0F-8070-B0C6898230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1008000"/>
            <a:ext cx="8259840" cy="13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85280" y="5900760"/>
            <a:ext cx="2266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hane@isc.org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bind10.isc.org/" TargetMode="External"/><Relationship Id="rId2" Type="http://schemas.openxmlformats.org/officeDocument/2006/relationships/hyperlink" Target="mailto:bind10-dev@lists.isc.org" TargetMode="External"/><Relationship Id="rId3" Type="http://schemas.openxmlformats.org/officeDocument/2006/relationships/hyperlink" Target="mailto:bind10-steering@lists.isc.org" TargetMode="External"/><Relationship Id="rId4" Type="http://schemas.openxmlformats.org/officeDocument/2006/relationships/hyperlink" Target="mailto:bind10-staff@lists.isc.org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7640" y="626760"/>
            <a:ext cx="8261280" cy="22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HCP Pow-Wow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457280" y="2993760"/>
            <a:ext cx="68040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ane Kerr &lt;</a:t>
            </a:r>
            <a:r>
              <a:rPr b="0" lang="en-US" sz="3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hane@isc.or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st All-H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dwood City, 2009-12-1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 “Infrastructure”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68436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urier 10 Pitch"/>
                <a:hlinkClick r:id="rId1"/>
              </a:rPr>
              <a:t>https://bind10.isc.or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c site (Wiki, Subversion, ticket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blic Subversion reposi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urier 10 Pitch"/>
                <a:hlinkClick r:id="rId2"/>
              </a:rPr>
              <a:t>bind10-dev@lists.isc.or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agendas &amp; minutes published 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urier 10 Pitch"/>
                <a:hlinkClick r:id="rId3"/>
              </a:rPr>
              <a:t>bind10-steering@lists.isc.or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urier 10 Pitch"/>
                <a:hlinkClick r:id="rId4"/>
              </a:rPr>
              <a:t>bind10-staff@lists.isc.or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(Rough) BIND 10 Timelin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1: Authoritative-only 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2: Recursive 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3: Fully functional 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4: Drop-in BIND 9 replac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5: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fun stu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 Technologi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8720" cy="46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71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chitecture &amp; Desig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ll-defined APIs and libra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ll runtime contr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atu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ilience to fail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uster suppo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2360" y="1440000"/>
            <a:ext cx="8658000" cy="33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UI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ving away from config/reload mod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rmal desktop GUI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uters (Junip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actions, versions, serializab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 with us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xt step: draft of command UI spe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velopmen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C BIND 10 team coding awa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a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eremy (50% RelEng, 50% tech writ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inmei, Michael, Jelte (codin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rissa (50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 JPRS staff (40% each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 CNNIC staff (80% each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6:14:03Z</dcterms:created>
  <dc:creator/>
  <dc:description/>
  <dc:language>en-US</dc:language>
  <cp:lastModifiedBy>Shane Kerr</cp:lastModifiedBy>
  <dcterms:modified xsi:type="dcterms:W3CDTF">2009-12-12T16:51:04Z</dcterms:modified>
  <cp:revision>230</cp:revision>
  <dc:subject/>
  <dc:title>isc_template_09jul_openoffc</dc:title>
</cp:coreProperties>
</file>