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282600"/>
            <a:ext cx="79992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8360" y="2087280"/>
            <a:ext cx="80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8360" y="4450680"/>
            <a:ext cx="80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282600"/>
            <a:ext cx="79992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8360" y="2087280"/>
            <a:ext cx="3915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2087280"/>
            <a:ext cx="3915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8360" y="4450680"/>
            <a:ext cx="3915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4450680"/>
            <a:ext cx="3915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282600"/>
            <a:ext cx="79992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8360" y="2087280"/>
            <a:ext cx="258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1680" y="2087280"/>
            <a:ext cx="258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5000" y="2087280"/>
            <a:ext cx="258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8360" y="4450680"/>
            <a:ext cx="258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1680" y="4450680"/>
            <a:ext cx="258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5000" y="4450680"/>
            <a:ext cx="258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282600"/>
            <a:ext cx="79992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58360" y="2087280"/>
            <a:ext cx="80247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282600"/>
            <a:ext cx="79992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58360" y="2087280"/>
            <a:ext cx="802476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282600"/>
            <a:ext cx="79992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8360" y="2087280"/>
            <a:ext cx="391572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0280" y="2087280"/>
            <a:ext cx="391572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82600"/>
            <a:ext cx="79992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282600"/>
            <a:ext cx="79992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282600"/>
            <a:ext cx="79992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58360" y="2087280"/>
            <a:ext cx="3915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2087280"/>
            <a:ext cx="391572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58360" y="4450680"/>
            <a:ext cx="3915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282600"/>
            <a:ext cx="79992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8360" y="2087280"/>
            <a:ext cx="80247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82600"/>
            <a:ext cx="79992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58360" y="2087280"/>
            <a:ext cx="391572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2087280"/>
            <a:ext cx="3915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0280" y="4450680"/>
            <a:ext cx="3915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282600"/>
            <a:ext cx="79992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58360" y="2087280"/>
            <a:ext cx="3915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2087280"/>
            <a:ext cx="3915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8360" y="4450680"/>
            <a:ext cx="80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282600"/>
            <a:ext cx="79992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58360" y="2087280"/>
            <a:ext cx="80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8360" y="4450680"/>
            <a:ext cx="80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282600"/>
            <a:ext cx="79992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58360" y="2087280"/>
            <a:ext cx="3915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2087280"/>
            <a:ext cx="3915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58360" y="4450680"/>
            <a:ext cx="3915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0280" y="4450680"/>
            <a:ext cx="3915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282600"/>
            <a:ext cx="79992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58360" y="2087280"/>
            <a:ext cx="258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71680" y="2087280"/>
            <a:ext cx="258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85000" y="2087280"/>
            <a:ext cx="258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58360" y="4450680"/>
            <a:ext cx="258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71680" y="4450680"/>
            <a:ext cx="258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85000" y="4450680"/>
            <a:ext cx="258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282600"/>
            <a:ext cx="79992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8360" y="2087280"/>
            <a:ext cx="802476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282600"/>
            <a:ext cx="79992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8360" y="2087280"/>
            <a:ext cx="391572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2087280"/>
            <a:ext cx="391572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282600"/>
            <a:ext cx="79992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282600"/>
            <a:ext cx="79992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282600"/>
            <a:ext cx="79992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8360" y="2087280"/>
            <a:ext cx="3915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2087280"/>
            <a:ext cx="391572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8360" y="4450680"/>
            <a:ext cx="3915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282600"/>
            <a:ext cx="79992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8360" y="2087280"/>
            <a:ext cx="391572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087280"/>
            <a:ext cx="3915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4450680"/>
            <a:ext cx="3915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282600"/>
            <a:ext cx="79992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8360" y="2087280"/>
            <a:ext cx="3915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087280"/>
            <a:ext cx="3915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8360" y="4450680"/>
            <a:ext cx="80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58360" y="2087280"/>
            <a:ext cx="802476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720" bIns="4680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720" y="282600"/>
            <a:ext cx="79992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8424720" y="6153120"/>
            <a:ext cx="43200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23600" y="2352240"/>
            <a:ext cx="77706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8424720" y="6153120"/>
            <a:ext cx="432000" cy="487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54000" y="979560"/>
            <a:ext cx="777240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904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Global DNS Operations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SC's Particip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420720" y="3011040"/>
            <a:ext cx="5450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ul Vix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ident, IS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36160"/>
            <a:ext cx="80010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688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ank you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58720" y="2131560"/>
            <a:ext cx="80265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 Sit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s://www.isc.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 Link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s://www.isc.org/community/f-ro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s://www.isc.org/solutions/s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s://www.isc.org/solutions/dl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s://www.isc.org/solutions/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367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688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58720" y="2087640"/>
            <a:ext cx="802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292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NS: ISC provides software, is global oper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ND 9, used by 80% of name serv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ND 10, next generation of BI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-ro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NS@IS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L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367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688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oot Server Over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8720" y="2087640"/>
            <a:ext cx="802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160" bIns="46800" anchor="t">
            <a:normAutofit/>
          </a:bodyPr>
          <a:p>
            <a:pPr marL="341280" indent="-341280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p of DNS hierarc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CANN creates root zone, root servers publis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 servers (limited by DNS), 12 organiz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-ordination via rooto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vise ICANN via RSSA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support IPv6 n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are anycast n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367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688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-root Detail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58720" y="2087640"/>
            <a:ext cx="802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160" bIns="46800" anchor="t">
            <a:normAutofit/>
          </a:bodyPr>
          <a:p>
            <a:pPr marL="341280" indent="-341280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 is ISC's root name ser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Pv6 and anyc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cast allows same IP from multiple lo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-root has global &amp; local no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lobal nodes: SFBA now, AMS 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cal nodes: 46 locations, on all continents</a:t>
            </a:r>
            <a:r>
              <a:rPr b="0" lang="en-US" sz="2400" spc="-1" strike="noStrike" baseline="33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 baseline="33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xcept Antarc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367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688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NS@ISC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58720" y="2087640"/>
            <a:ext cx="802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292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ary Name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s benefits of anycast fo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m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etes with commercial offer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ways IPv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NSSEC support in several w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Benefit (SNS-PB), Commercial (SNS-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367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688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NS-PB vs. SNS-CO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58720" y="2087640"/>
            <a:ext cx="802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160" bIns="46800" anchor="t">
            <a:normAutofit/>
          </a:bodyPr>
          <a:p>
            <a:pPr marL="341280" indent="-341280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NS-P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ree service for nonprofit/public benefit or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re than 60 TLDs, hundreds of other domai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uns on ISC infrastru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st effort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NS-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ercial service – anyone can bu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uns on infrastructure with commercial partn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L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367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688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LV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8720" y="2087280"/>
            <a:ext cx="802656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292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NSSEC Lookaside Valid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y “normal” DNSSEC fir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no trust anchor found, check DLV registry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interim DNSSEC deployment mechanis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ows use of DNSSEC with many “islands of trust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ses resolver configuration heada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ses deployment of DNSSEC signed z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ts until enough key zones are sig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root, TL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fficient “connectivity” in the DNSSEC cha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367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688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SC's DLV Statu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58720" y="2087640"/>
            <a:ext cx="802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292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LV is now a production-quality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shed on SNS@IS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ols for authoritative DNS oper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b-based interfa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-mail notifications of proble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ks Trust Anchor Repositories (T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ture improvemen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FC 5011 (automatic trust anchor updates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ion into BIND 9.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367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688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I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58720" y="2087640"/>
            <a:ext cx="802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2920" bIns="46800" anchor="t">
            <a:normAutofit fontScale="96000"/>
          </a:bodyPr>
          <a:p>
            <a:pPr marL="327600" indent="-327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C SIE - Security Information Ex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7600" indent="-327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ecting data from sensors around the Inter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1360" indent="-27252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ssive DNS, SPAM, URL searches, sinkhole data, etc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7600" indent="-327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ing data available in real time to security researc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7600" indent="-327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1360" indent="-27252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on infrastructure and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1360" indent="-27252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on legal and privacy frame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1360" indent="-27252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twork effect from combining different data 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11360" indent="-272520">
              <a:lnSpc>
                <a:spcPct val="98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ducing duplication of effort - more collabo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21:44:21Z</dcterms:created>
  <dc:creator>Laura Hendriksen</dc:creator>
  <dc:description/>
  <dc:language>en-US</dc:language>
  <cp:lastModifiedBy/>
  <dcterms:modified xsi:type="dcterms:W3CDTF">2009-05-31T22:58:19Z</dcterms:modified>
  <cp:revision>27</cp:revision>
  <dc:subject/>
  <dc:title>Slide 1</dc:title>
</cp:coreProperties>
</file>