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E9A1-3743-4BCA-9CB2-F58CFCF85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D703-E4F7-4ABC-B5DE-7E95F09C0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320-F335-4950-9A51-9DA6AE015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D2D2-F4C1-4DFF-8D5D-8F0802257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B4BE-9EF6-4674-956F-DFED7351A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1CE0-7D24-4737-A8B9-D8DB5DCB0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772C-5933-4171-8A04-5831951F8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5C1C-E863-40E5-BBD8-17BE58350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0619-9F38-4B83-8C0C-5648ACD31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01EE-7472-45BF-B294-8F118BC38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103-02EA-4708-8FCF-5D98E5C69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271C-FD3B-448E-9093-EF163E226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09552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E5CD0F-5468-4213-81DD-32E9B675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isc.org/bind10/sponsor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1132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in 10 Minut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168360"/>
            <a:ext cx="73152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l for Suppor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C is a non-profit, open source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needs your suppor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contributions – code, testing, requirements – wel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ponsors very wel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BIND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 server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by 80% of DNS ser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DNS is importa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 BIND is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tivation for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D 9 is almost 10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mput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twork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NS software “marketplace” evol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new architecture for the next 10+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Projec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sought funders for BIND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ous sponsors provided initial fun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isc.org/bind10/spon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sponsors form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ND 10 Steering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kick-off date 2009-04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Rough) BIND 10 Time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: Authoritative-onl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2: Recursive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3: Production-qualit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4: Drop-in BIND 9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5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development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bind10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bind10-dev@lists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Subversion reposi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team coding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ISC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JPRS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CNNIC staf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Technologi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chitecture &amp; Desig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defined APIs and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runtime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lience to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ust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Process Mode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2360" y="1592280"/>
            <a:ext cx="865836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otype authoritative server d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eases every 4-6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server in 9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05:33:13Z</dcterms:created>
  <dc:creator>Shane Kerr</dc:creator>
  <dc:description/>
  <dc:language>en-US</dc:language>
  <cp:lastModifiedBy>Shane Kerr</cp:lastModifiedBy>
  <dcterms:modified xsi:type="dcterms:W3CDTF">2010-06-21T05:59:13Z</dcterms:modified>
  <cp:revision>25</cp:revision>
  <dc:subject/>
  <dc:title>isc_template_09jul_openoffc</dc:title>
</cp:coreProperties>
</file>