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F833-9FED-495E-89E8-9F2A95BC2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1160-4A11-4979-878E-68186C6D6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F083-05D8-4F35-A485-951FA1FA5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9DA4-6B94-4FC0-8230-3D785B024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1C2A-30A1-43C4-8F73-66DD0E422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630E-9F38-43E9-AA1B-87711323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0345-7D73-44D8-9DDD-8E2407429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511F-AB2A-4EE1-B1B7-8716B40DA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2C1E-1C6D-4C37-85B1-FF476068A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CB9B-E3B2-4402-A95B-66E32FD0F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0B15-A527-4D1A-91DF-524E41EAD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2798-F641-4544-8D8C-D6BA8F0ED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AA62A-855E-48A0-87BC-C9B177B1A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abs.ripe.net/content/lameness-analysis-measurement-and-estimation" TargetMode="External"/><Relationship Id="rId2" Type="http://schemas.openxmlformats.org/officeDocument/2006/relationships/hyperlink" Target="http://www.ripe.net/ripe/meetings/ripe-59/presentations/kerr-trees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sc.org/software/bind10/mascot-contest-webfor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fe, DNS, and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1683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ameness Stud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ooperation from the RIPE NCC I did a study of lameness in reverse DNS: </a:t>
            </a: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labs.ripe.net/content/lameness-analysis-measurement-and-estimation</a:t>
            </a:r>
            <a:br>
              <a:rPr sz="1500"/>
            </a:b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ripe.net/ripe/meetings/ripe-59/presentations/kerr-trees.pdf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: lameness in reverse causes very little user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... the DNS community still decided to spend resources fixing lam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and Peopl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we are doing something, we should ask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swer should always be that it helps some person in some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is DNS software for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'll have an example lat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won't tell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t. ;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ao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1991 I read a book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hao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It was about Chaos theory. (I recommend it!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got a copy for my m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73520" y="1855800"/>
            <a:ext cx="4016520" cy="40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aos vs. My Mo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mom read the bo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e could not believe that anyone could have such ide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they think of these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for the scientists, engineers, and mathematicians, each discovery was one small step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wo Quot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I have seen further it is by standing on the shoulders of Giants.”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aac New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 artists copy, great artists steal.”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ica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95588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6400" y="1241280"/>
            <a:ext cx="244476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state-of-the-art practices and technolo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d improve industry standard methodolog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ther words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Verdana"/>
              </a:rPr>
              <a:t>Steal them!!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se Study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Zone Loader Outpu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IND 10 there is a tool called b10-loadz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ool takes a zone file and loads it into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ata 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urrently an SQLite3 database fi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tty sim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3508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unning b10-load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508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 b10-loadzone time-travellers.org.z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ms to work fine... use dig to che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Fathe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dad was a soldier</a:t>
            </a:r>
            <a:r>
              <a:rPr b="0" lang="en-US" sz="3200" spc="-1" strike="noStrike" baseline="33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US ARMY, wher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3 ways of doing thing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IGHT wa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RONG way,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ARM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A veterinarian (animal doctor), but still a soldier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unning b10-load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508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 b10-loadzone nl.z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hing happens. Is it working? Check “top”, look at database size, and so on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to do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verbose mo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updates as file is load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$ b10-loadzone example.d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Using SQLite3 database file "/var/lib/bind10/test-sqlite.db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Zone name is "xn—fsqu00a.cn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5342 Resource Record(s) loaded in 2 second(s) (0.5% of 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mple, right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check if going to T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change the code to have points in loading to output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guess how far we are in loading (based on file size and position in i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statements in zone files make this... tricky (thanks Likun for spotting this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ith BIND 10,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Yes We Can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have time to do it righ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want to make i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Did I Say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: Zone Loader Outpu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l for Suppor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rmally the last slide is asking for new spons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ay... I want a new MASCOT!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isc.org/software/bind10/mascot-contest-web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ilitary Presentation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WHAT YOU WILL S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WHAT YOU SAI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Will I Say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: Zone Loader Outpu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won't tell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t. ;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hane's Big Secre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not a DNS Pers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ere I Came From..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ied Computer Sc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 telephony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RIN... doing back-end database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RIPE NCC... doing WHO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ISC... doing DHCPv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filias... doing DN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Important in Lif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's not D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t's people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echnological fields – and especially in the DNS community – we often forget that the technology is not important, except when it can help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ample: Lamenes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meness is when an NS for a domain does not answer authoritatively for that dom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auses probl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ie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amenes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4:01:25Z</dcterms:created>
  <dc:creator>Shane Kerr</dc:creator>
  <dc:description/>
  <dc:language>en-US</dc:language>
  <cp:lastModifiedBy>Shane Kerr</cp:lastModifiedBy>
  <dcterms:modified xsi:type="dcterms:W3CDTF">2010-05-12T06:59:27Z</dcterms:modified>
  <cp:revision>47</cp:revision>
  <dc:subject/>
  <dc:title>isc_template_09jul_openoffc</dc:title>
</cp:coreProperties>
</file>