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11.png" ContentType="image/png"/>
  <Override PartName="/ppt/media/image19.jpeg" ContentType="image/jpeg"/>
  <Override PartName="/ppt/media/image9.png" ContentType="image/png"/>
  <Override PartName="/ppt/media/image7.png" ContentType="image/png"/>
  <Override PartName="/ppt/media/image1.jpeg" ContentType="image/jpeg"/>
  <Override PartName="/ppt/media/image20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5.png" ContentType="image/png"/>
  <Override PartName="/ppt/media/image2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8.png" ContentType="image/png"/>
  <Override PartName="/ppt/media/image1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720263" cy="64801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4A4D42-2D9C-44DB-A5AA-688B23D2CB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5640" y="179280"/>
            <a:ext cx="874728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85640" y="1510920"/>
            <a:ext cx="874728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5640" y="3744000"/>
            <a:ext cx="874728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6CFE44-0019-4272-B69C-2E2A9B477E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85640" y="179280"/>
            <a:ext cx="874728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85640" y="1510920"/>
            <a:ext cx="42685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68000" y="1510920"/>
            <a:ext cx="42685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5640" y="3744000"/>
            <a:ext cx="42685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968000" y="3744000"/>
            <a:ext cx="42685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D6C155-4764-40B9-8522-BC24609F31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85640" y="179280"/>
            <a:ext cx="874728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85640" y="1510920"/>
            <a:ext cx="281628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443040" y="1510920"/>
            <a:ext cx="281628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400440" y="1510920"/>
            <a:ext cx="281628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5640" y="3744000"/>
            <a:ext cx="281628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443040" y="3744000"/>
            <a:ext cx="281628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400440" y="3744000"/>
            <a:ext cx="281628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F1F69A-9B87-4342-9CC3-D8F1DB5EC6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85640" y="179280"/>
            <a:ext cx="874728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85640" y="1510920"/>
            <a:ext cx="8747280" cy="427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5640" y="179280"/>
            <a:ext cx="874728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5640" y="1510920"/>
            <a:ext cx="8747280" cy="427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85640" y="179280"/>
            <a:ext cx="874728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85640" y="1510920"/>
            <a:ext cx="4268520" cy="427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968000" y="1510920"/>
            <a:ext cx="4268520" cy="427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85640" y="179280"/>
            <a:ext cx="874728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85640" y="179280"/>
            <a:ext cx="8747280" cy="574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102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85640" y="179280"/>
            <a:ext cx="874728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85640" y="1510920"/>
            <a:ext cx="42685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968000" y="1510920"/>
            <a:ext cx="4268520" cy="427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85640" y="3744000"/>
            <a:ext cx="42685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85640" y="179280"/>
            <a:ext cx="874728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85640" y="1510920"/>
            <a:ext cx="8747280" cy="427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EE6611-238A-44FA-BA98-8C25C51506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85640" y="179280"/>
            <a:ext cx="874728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85640" y="1510920"/>
            <a:ext cx="4268520" cy="427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68000" y="1510920"/>
            <a:ext cx="42685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968000" y="3744000"/>
            <a:ext cx="42685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85640" y="179280"/>
            <a:ext cx="874728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85640" y="1510920"/>
            <a:ext cx="42685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68000" y="1510920"/>
            <a:ext cx="42685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85640" y="3744000"/>
            <a:ext cx="874728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85640" y="179280"/>
            <a:ext cx="874728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85640" y="1510920"/>
            <a:ext cx="874728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5640" y="3744000"/>
            <a:ext cx="874728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85640" y="179280"/>
            <a:ext cx="874728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85640" y="1510920"/>
            <a:ext cx="42685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68000" y="1510920"/>
            <a:ext cx="42685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85640" y="3744000"/>
            <a:ext cx="42685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968000" y="3744000"/>
            <a:ext cx="42685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85640" y="179280"/>
            <a:ext cx="874728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85640" y="1510920"/>
            <a:ext cx="281628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443040" y="1510920"/>
            <a:ext cx="281628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400440" y="1510920"/>
            <a:ext cx="281628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85640" y="3744000"/>
            <a:ext cx="281628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443040" y="3744000"/>
            <a:ext cx="281628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400440" y="3744000"/>
            <a:ext cx="281628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85640" y="179280"/>
            <a:ext cx="874728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85640" y="1510920"/>
            <a:ext cx="8747280" cy="427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405126-3005-4973-8C16-E13EB197DF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85640" y="179280"/>
            <a:ext cx="874728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85640" y="1510920"/>
            <a:ext cx="4268520" cy="427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968000" y="1510920"/>
            <a:ext cx="4268520" cy="427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78FB5B-4054-4090-B932-4F41164FE7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85640" y="179280"/>
            <a:ext cx="874728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B6E939-965D-468C-AF4E-4BF51E88D3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85640" y="179280"/>
            <a:ext cx="8747280" cy="574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102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E8F46A-74D6-4371-9EA3-22BC3CA7F8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85640" y="179280"/>
            <a:ext cx="874728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85640" y="1510920"/>
            <a:ext cx="42685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68000" y="1510920"/>
            <a:ext cx="4268520" cy="427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85640" y="3744000"/>
            <a:ext cx="42685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053842-78E7-4B80-9569-86E0742F99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85640" y="179280"/>
            <a:ext cx="874728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85640" y="1510920"/>
            <a:ext cx="4268520" cy="427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68000" y="1510920"/>
            <a:ext cx="42685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68000" y="3744000"/>
            <a:ext cx="42685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02C396-C6A7-40E4-8D50-978240510F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85640" y="179280"/>
            <a:ext cx="874728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85640" y="1510920"/>
            <a:ext cx="42685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68000" y="1510920"/>
            <a:ext cx="42685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5640" y="3744000"/>
            <a:ext cx="874728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59C31-7FC7-4DD3-B7CA-B26D05E371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720360" cy="6480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85640" y="179280"/>
            <a:ext cx="874728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85640" y="1510920"/>
            <a:ext cx="8747280" cy="427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343080" indent="-3430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343080" indent="-3430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343080" indent="-3430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343080" indent="-3430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343080" indent="-3430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485280" y="5759280"/>
            <a:ext cx="226692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AB4C432-2FEF-4B43-B906-3285CEBA228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720360" cy="648000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47640" y="1008000"/>
            <a:ext cx="8259840" cy="138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2"/>
          </p:nvPr>
        </p:nvSpPr>
        <p:spPr>
          <a:xfrm>
            <a:off x="485280" y="5900760"/>
            <a:ext cx="226692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body"/>
          </p:nvPr>
        </p:nvSpPr>
        <p:spPr>
          <a:xfrm>
            <a:off x="485640" y="1515960"/>
            <a:ext cx="874584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343080" indent="-3430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343080" indent="-3430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343080" indent="-3430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343080" indent="-3430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343080" indent="-3430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shane@isc.org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bind10.isc.org/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jpeg"/><Relationship Id="rId9" Type="http://schemas.openxmlformats.org/officeDocument/2006/relationships/image" Target="../media/image13.png"/><Relationship Id="rId10" Type="http://schemas.openxmlformats.org/officeDocument/2006/relationships/image" Target="../media/image14.jpeg"/><Relationship Id="rId11" Type="http://schemas.openxmlformats.org/officeDocument/2006/relationships/image" Target="../media/image15.png"/><Relationship Id="rId1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bind10.isc.org/" TargetMode="External"/><Relationship Id="rId2" Type="http://schemas.openxmlformats.org/officeDocument/2006/relationships/hyperlink" Target="mailto:bind10-dev@lists.isc.org" TargetMode="Externa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47640" y="626760"/>
            <a:ext cx="8261280" cy="223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BIND 10</a:t>
            </a:r>
            <a:br>
              <a:rPr sz="40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he 1</a:t>
            </a:r>
            <a:r>
              <a:rPr b="1" lang="en-US" sz="3200" spc="-1" strike="noStrike" baseline="33000">
                <a:solidFill>
                  <a:srgbClr val="000000"/>
                </a:solidFill>
                <a:latin typeface="Verdana"/>
              </a:rPr>
              <a:t>st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Year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457280" y="2993760"/>
            <a:ext cx="680400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hane Kerr &lt;</a:t>
            </a:r>
            <a:r>
              <a:rPr b="0" lang="en-US" sz="3000" spc="-1" strike="noStrike" u="sng">
                <a:solidFill>
                  <a:srgbClr val="ccccff"/>
                </a:solidFill>
                <a:uFillTx/>
                <a:latin typeface="Verdana"/>
                <a:hlinkClick r:id="rId1"/>
              </a:rPr>
              <a:t>shane@isc.org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EPG @IETF 77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naheim, 2010-03-21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85640" y="223920"/>
            <a:ext cx="8748720" cy="55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Verdana"/>
                <a:ea typeface="Arial Unicode MS"/>
              </a:rPr>
              <a:t>...more time passes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85640" y="178920"/>
            <a:ext cx="8748720" cy="124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The Ugly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31640" y="1800000"/>
            <a:ext cx="8748720" cy="39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8436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oftware engineering shortfall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1484280" indent="-284040">
              <a:lnSpc>
                <a:spcPct val="102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view process rush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1484280" indent="-284040">
              <a:lnSpc>
                <a:spcPct val="102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ot full test coverag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8436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sufficient security mod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1484280" indent="-284040">
              <a:lnSpc>
                <a:spcPct val="102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o chroot/setui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1484280" indent="-284040">
              <a:lnSpc>
                <a:spcPct val="102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o ACL suppor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6481800" y="247680"/>
            <a:ext cx="2697120" cy="137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85640" y="223560"/>
            <a:ext cx="8748720" cy="115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The Bad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85640" y="1511280"/>
            <a:ext cx="8748720" cy="41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8436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issing Featur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1484280" indent="-284040">
              <a:lnSpc>
                <a:spcPct val="102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a store update AP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1484280" indent="-284040">
              <a:lnSpc>
                <a:spcPct val="102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XFR (in &amp; out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1484280" indent="-284040">
              <a:lnSpc>
                <a:spcPct val="102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on-SQL data sour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8436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ot optimized for perform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6437160" y="247680"/>
            <a:ext cx="2743200" cy="137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85640" y="223560"/>
            <a:ext cx="8748720" cy="115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The Good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85640" y="1510920"/>
            <a:ext cx="8748720" cy="425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677160" indent="-3376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ots of DNS RFC goodnes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1469160" indent="-281160">
              <a:lnSpc>
                <a:spcPct val="102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034/1035, 2672 (DNAME), 3225 (DO bit), 3658 (DS), 4033/4035/4036 (DNSKEY, RRSIG, NSEC), 5155 (NSEC3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77160" indent="-3376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DP/UDP, IPv4/IPv6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77160" indent="-3376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QL backen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77160" indent="-3376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NS library (C++, Python bindings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77160" indent="-3376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utomated build/test process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6372360" y="247680"/>
            <a:ext cx="2806560" cy="137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85640" y="223560"/>
            <a:ext cx="8748720" cy="115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What Next?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85640" y="1511280"/>
            <a:ext cx="8748720" cy="41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8436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leases every 4-6 week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436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xing both the Bad &amp; the Ugl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436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urs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436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ditional sponsor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85640" y="178920"/>
            <a:ext cx="8748720" cy="124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Thanks!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431640" y="720720"/>
            <a:ext cx="8748720" cy="427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ial Unicode MS"/>
              </a:rPr>
              <a:t>Friday was BIND 10's First Release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2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Verdana"/>
                <a:ea typeface="Arial Unicode MS"/>
                <a:hlinkClick r:id="rId1"/>
              </a:rPr>
              <a:t>http://bind10.isc.or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85640" y="178920"/>
            <a:ext cx="8748720" cy="124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A Phone Call...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6300720" y="1346040"/>
            <a:ext cx="2843280" cy="36943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85640" y="1511280"/>
            <a:ext cx="874872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8436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IND 10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436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ject defin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436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ponsors obtain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436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hen can you start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fill="hold">
                      <p:stCondLst>
                        <p:cond delay="indefinite"/>
                      </p:stCondLst>
                      <p:childTnLst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dur="indefinite" fill="hold">
                      <p:stCondLst>
                        <p:cond delay="indefinite"/>
                      </p:stCondLst>
                      <p:childTnLst>
                        <p:par>
                          <p:cTn id="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dur="indefinite" fill="hold">
                      <p:stCondLst>
                        <p:cond delay="indefinite"/>
                      </p:stCondLst>
                      <p:childTnLst>
                        <p:par>
                          <p:cTn id="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85640" y="223560"/>
            <a:ext cx="8748720" cy="115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I want to if you want to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2463840" y="1765440"/>
            <a:ext cx="4762440" cy="3571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85640" y="223560"/>
            <a:ext cx="8748720" cy="115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Sponsors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3419640" y="1293840"/>
            <a:ext cx="1390320" cy="6858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5219640" y="1440000"/>
            <a:ext cx="1270080" cy="6984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1155600" y="2516040"/>
            <a:ext cx="1905120" cy="7239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3495600" y="2697120"/>
            <a:ext cx="1905120" cy="5428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5"/>
          <a:stretch/>
        </p:blipFill>
        <p:spPr>
          <a:xfrm>
            <a:off x="4064040" y="5400720"/>
            <a:ext cx="1876320" cy="7142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6"/>
          <a:stretch/>
        </p:blipFill>
        <p:spPr>
          <a:xfrm>
            <a:off x="5759280" y="2535120"/>
            <a:ext cx="1333800" cy="7048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7"/>
          <a:stretch/>
        </p:blipFill>
        <p:spPr>
          <a:xfrm>
            <a:off x="7477200" y="2573280"/>
            <a:ext cx="1523880" cy="6667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8"/>
          <a:stretch/>
        </p:blipFill>
        <p:spPr>
          <a:xfrm>
            <a:off x="1433520" y="3735360"/>
            <a:ext cx="2166840" cy="5857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9"/>
          <a:stretch/>
        </p:blipFill>
        <p:spPr>
          <a:xfrm>
            <a:off x="4105440" y="3419640"/>
            <a:ext cx="1653840" cy="13716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10"/>
          <a:stretch/>
        </p:blipFill>
        <p:spPr>
          <a:xfrm>
            <a:off x="6300720" y="3600360"/>
            <a:ext cx="1828800" cy="9144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11"/>
          <a:stretch/>
        </p:blipFill>
        <p:spPr>
          <a:xfrm>
            <a:off x="4140360" y="4621320"/>
            <a:ext cx="1638000" cy="41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85640" y="178920"/>
            <a:ext cx="8748720" cy="124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A 5 Year Mission^WPlan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6299280" y="1440000"/>
            <a:ext cx="2879640" cy="2157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85640" y="1511280"/>
            <a:ext cx="8748720" cy="41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8436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AutoNum type="arabicPeriod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uthoritativ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436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AutoNum type="arabicPeriod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ursiv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436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AutoNum type="arabicPeriod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duc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436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AutoNum type="arabicPeriod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IND 9 Compatibil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436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AutoNum type="arabicPeriod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ew Stuff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85640" y="182160"/>
            <a:ext cx="8748720" cy="12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Sowing the Seeds of Openness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31640" y="1871640"/>
            <a:ext cx="8748720" cy="35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8436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rac site, 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Verdana"/>
                <a:hlinkClick r:id="rId1"/>
              </a:rPr>
              <a:t>http://bind10.isc.or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8436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er list, 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Verdana"/>
                <a:hlinkClick r:id="rId2"/>
              </a:rPr>
              <a:t>bind10-dev@lists.isc.or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8436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ublic Subvers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8436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ublished weekly minut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8436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vangineer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85640" y="223920"/>
            <a:ext cx="8748720" cy="55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Verdana"/>
                <a:ea typeface="Arial Unicode MS"/>
              </a:rPr>
              <a:t>...time passes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522360" y="1440000"/>
            <a:ext cx="8658000" cy="33829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4T05:14:03Z</dcterms:created>
  <dc:creator/>
  <dc:description/>
  <dc:language>en-US</dc:language>
  <cp:lastModifiedBy>Shane Kerr</cp:lastModifiedBy>
  <dcterms:modified xsi:type="dcterms:W3CDTF">2010-03-21T16:18:46Z</dcterms:modified>
  <cp:revision>222</cp:revision>
  <dc:subject/>
  <dc:title>isc_template_09jul_openoffc</dc:title>
</cp:coreProperties>
</file>