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FCB07-1C10-47F5-992A-0B739020F1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AA784-024C-4B62-AFE7-3E119241F8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99D11-E511-4CE2-ADAB-B031A9CA9A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46D40-5B1B-434D-B168-3301955642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90080"/>
            <a:ext cx="82281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E3BF2-1437-4E01-89DA-4959D54287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22288-0B58-455C-B0FD-766B986122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51905-DAB7-4FB1-B42E-BAD8FE466A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A7E33-F44B-44CF-ACA6-16C4C22354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190080"/>
            <a:ext cx="82281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529FA-654E-4055-A3D4-4B6AE40AE5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C4E84-4FBD-417A-A858-4DB4515B75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8907F-1F16-459A-BD33-5B09ACF620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4EBA9-17C1-45B2-84B2-5851BCEA79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7200" y="6095520"/>
            <a:ext cx="21319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508C50-4F7C-4D08-AE6B-A37C2F80D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isc.org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111132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Distributed Project Management in BIND 10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16836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hane Ker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net Systems Consortium (ISC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Revision Control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bversion pick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Better CVS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llent Trac integ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ntralized: one reposi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xt step: distributed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rcurial or g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isolated branch, then mer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 always need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for branches, releases, re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IND 10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Development Team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C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so non-ISC (JPRS, CNNIC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e in futur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85800" y="3419640"/>
            <a:ext cx="7315200" cy="32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IND 10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ommunication Challenge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pa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IND 10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ommunication Challenge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apan: UTC+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therlands: UTC+1 (+2 in summe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ifornia: UTC-8 (-7 in summe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pa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S → SFO: at least 11 hours fly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ul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osed to open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any, country, language iss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IND 10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ommunication Solution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-mail for proposals &amp; deci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Jabber for chat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decis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ekly conference cal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3:00 in Beijing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nda on e-mail li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nutes on Wik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rterly face-to-face meet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ypes of Managemen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ess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going 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 restaurants, support, operations,  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jec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 with a beginning and an 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 construction, software development,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ND 10 is 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ND 10 Support will be 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Project Lifecycl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y, many,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man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sty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rge companies use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C does not ;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models are similar, roughly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itiate (describe, identify skills &amp; resources,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company commitmen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n (tasks, ordering, estimate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ecute (do the work, track pla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clude (verify work, champagn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oftware Lifecycle Model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s how software is buil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undamentally project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y, many,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man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sty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rge companies use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C does not :(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ng history, going back to 1950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st practices from other industr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ftware i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uniqu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n many w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IND 10: Y1 Lifecycle Model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otstrapping probl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terfall mod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73520" y="1855800"/>
            <a:ext cx="4016520" cy="401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IND 10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Waterfall Problem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ic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ays “cascade”: not enough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certain requirements/desig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mi-uniqu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ople not available in begin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ject had many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Disclaimer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talk is about projec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 was a programm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managerial education or trai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me software engineering trai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ve computers, hate busines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 am a project manag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ill no managerial trai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me experience, mostly mistakes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IND 10: Y2 Lifecycle Model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t something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agi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orter timelines, more inter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esses insure productiv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rum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105000" y="3429000"/>
            <a:ext cx="4667400" cy="29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Lifecycle Model?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rum iss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experience with scrum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backlog of work to build fr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custom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ily meetings impractic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milar issues with all agile metho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ed around small te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 constant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oving to Agile Developmen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 experienc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s of stuff online... try it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 backlog of work to build fro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 a backlo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s in Wiki, now in tickets, later...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 custome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rrently doing without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ily meetings impractic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abber “bind10-daily-status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urrent Challenge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inimizing conference call ti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etter integrating ISC/non-ISC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sing development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bversion to Mercurial/g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cking backlog &amp; other tick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ekly/daily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fun for develop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razy Idea Section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echnology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igh-tec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uters, software, mobile ph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w-tec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rming, road-buil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mbly lines, checkli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ul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ward systems, open sou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ll Systems Need Feedback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rs need driv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cuments need edi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needs tes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f the process does not have a step for correction, the first step is to add that to the proces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Iteration and Feedback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503360" y="1600200"/>
            <a:ext cx="1922400" cy="45259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73160" y="1599840"/>
            <a:ext cx="401652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reating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artifact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makes this easi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ing can be event or time-bas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ta-level work also impor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Iteration &amp; Feedback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IND 10 Example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 have dat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st review, next re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iodic assess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t-mortem at each rele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ulture of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this tool the best? (Subversio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we doing this well? (Meeting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Iteration/Feedback and Projec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jects star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-use of process is effic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jects e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ssons can apply to next proj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Goal is the Go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Improving the process is nice, but only when it helps improve the output of the proj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Warning!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525744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s could happen to you!!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85800" y="1974960"/>
            <a:ext cx="4572000" cy="3054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797440" y="1600200"/>
            <a:ext cx="24321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IND 10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scot Contest!!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e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www.isc.org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ag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estions or comment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7086600" y="457200"/>
            <a:ext cx="1828800" cy="1828800"/>
          </a:xfrm>
          <a:custGeom>
            <a:avLst/>
            <a:gdLst>
              <a:gd name="textAreaLeft" fmla="*/ 169200 w 1828800"/>
              <a:gd name="textAreaRight" fmla="*/ 1659600 w 1828800"/>
              <a:gd name="textAreaTop" fmla="*/ 169200 h 1828800"/>
              <a:gd name="textAreaBottom" fmla="*/ 1659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  <a:moveTo>
                  <a:pt x="2000" y="2000"/>
                </a:moveTo>
                <a:lnTo>
                  <a:pt x="19600" y="2000"/>
                </a:lnTo>
                <a:lnTo>
                  <a:pt x="19600" y="19600"/>
                </a:lnTo>
                <a:lnTo>
                  <a:pt x="2000" y="19600"/>
                </a:lnTo>
                <a:close/>
              </a:path>
            </a:pathLst>
          </a:cu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600" spc="-1" strike="noStrike">
                <a:solidFill>
                  <a:srgbClr val="999999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IND 10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Future of DNS softwa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ccessor to BIND 9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80% of DNS servers worldwide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implem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0 years ol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 Source (BSD licens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5 year project to impl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onsored work, dedicated te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7086600" y="457200"/>
            <a:ext cx="1828800" cy="1828800"/>
          </a:xfrm>
          <a:custGeom>
            <a:avLst/>
            <a:gdLst>
              <a:gd name="textAreaLeft" fmla="*/ 169200 w 1828800"/>
              <a:gd name="textAreaRight" fmla="*/ 1659600 w 1828800"/>
              <a:gd name="textAreaTop" fmla="*/ 169200 h 1828800"/>
              <a:gd name="textAreaBottom" fmla="*/ 1659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  <a:moveTo>
                  <a:pt x="2000" y="2000"/>
                </a:moveTo>
                <a:lnTo>
                  <a:pt x="19600" y="2000"/>
                </a:lnTo>
                <a:lnTo>
                  <a:pt x="19600" y="19600"/>
                </a:lnTo>
                <a:lnTo>
                  <a:pt x="2000" y="19600"/>
                </a:lnTo>
                <a:close/>
              </a:path>
            </a:pathLst>
          </a:cu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600" spc="-1" strike="noStrike">
                <a:solidFill>
                  <a:srgbClr val="999999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22120"/>
            <a:ext cx="82296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ISC Style of Work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ng long ago, Paul Vixie noticed a smart guy named Mark Andrews doing a bunch of work on BIND. Mark Andrews lives in Austral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ul: “Want to work for me?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k: “No worries, mate! But I'd hate to leave the outback...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ul: “Okay, work from there, we'll use the Internet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543800" y="128520"/>
            <a:ext cx="1371600" cy="21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ISC Style of Work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Practical Detail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-mail is critic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al, mailing li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 calls, conference ca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Jab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al IM, chat roo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e to face meet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head office, IETF/other confe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ISC Style of Work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New for BIND 10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ale of co-ope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staff on on proj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ng-running eff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-existence with other projec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ND 9, ISC DHCP at same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engineering effo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 develop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just open sou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ty interactions ke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op Tool Tip: Trac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c is a web-based tool to help software develop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662200"/>
            <a:ext cx="9144000" cy="41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Problems with Trac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ual Wiki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tropy: tends to dis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standards for marku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icket system not flexi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nimal support for workfl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 great for NON-develop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bversion... see next slid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02:52:57Z</dcterms:created>
  <dc:creator>Shane Kerr</dc:creator>
  <dc:description/>
  <dc:language>en-US</dc:language>
  <cp:lastModifiedBy>Shane Kerr</cp:lastModifiedBy>
  <dcterms:modified xsi:type="dcterms:W3CDTF">2010-05-18T06:52:24Z</dcterms:modified>
  <cp:revision>80</cp:revision>
  <dc:subject/>
  <dc:title>isc_template_09jul_openoffc</dc:title>
</cp:coreProperties>
</file>